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1A4-270A-40D5-99DC-F3CC4B63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DFC-7990-42C8-994C-01A4E09D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37F-52F8-46E7-824C-2769EF3C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4F4-7CCB-4F9C-A778-1B555F50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7B6B-761B-436F-BCD8-A9240F6B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9736-0EB8-47F7-9D49-7850F562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1533-F9E3-4739-BE37-06BA0C09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40C0-E8BB-429B-AAC0-D7F74E14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A56C-197B-44E4-8057-AF537BA2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E74A-24EB-4FAB-9EBC-B44F88C4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B4EB-6304-4D70-85B4-9DBCE359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208-DF8F-4432-B833-81B7F756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1BA2-B1FF-4A5C-98EA-F618C059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82B6-941A-4844-B3C9-321D464B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BA51-CE45-4B5B-AF51-9F613539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98BF-B76E-491B-A996-07EC1E5D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D69F-515F-4509-82E3-D831A631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7C64-8105-4BF8-ACD3-1989B687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FE0F-0E9C-41D3-877F-7101959A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7B89-12C3-49EB-BF09-49619E63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D54E-DCCF-49B4-9D3C-290C75A4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2E81-4535-4C08-B0C2-7AD83BA5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DF6-8A6C-4821-8450-06930663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C45E-765E-4223-90E5-7C3D82F2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C202-95CB-4B40-9895-93C6A15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A4494-5A36-4FE3-B7D6-2544FB1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5C48-E1D8-4C75-9DBC-454FA0E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C922-7BC0-42F0-949A-6D90D407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5973-183F-4344-87AD-E9E4F333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98113-546B-4257-AB15-64907A9F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07CA4-9CA1-4C34-8401-022AB1E2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81443-B67F-4AB8-84A6-B6B77C5B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1A932-70D1-48DA-BCC4-242CC04F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DAC-F7A0-4705-86C9-F35189AF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8EFDC-7172-4479-A465-4D472719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40F23-D380-431F-A108-E5302FF1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7D86C-9EAD-41E0-8C60-019A240F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9EC58-719A-44BC-8162-27705ACE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4318-C244-4025-ABD8-576B0DBA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60F2-BE6D-4A62-8D1D-9F8360A4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9B118-5D38-4B7C-93EC-CC42F19A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62E0-7D24-4D62-8222-C76C6BE4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1AB08-1052-4576-806E-37D458E3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61371-7268-4CDF-ABE9-E17D43E6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18B-D745-4435-94AE-4F82636A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06DDB-AA88-497C-95DA-1C5DB87E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6020E-298E-40CA-8728-F70D18AE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147FB-B9B5-4972-B9FE-B8E08303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8175A-B841-4570-BBC1-A64F022D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55909-7511-4905-BA14-1C87AF8D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C1D55-2AC5-4F6C-84E0-31B68C1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33742-BE24-4044-B093-355B4622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9F5C-4E63-4A9F-8990-EEEAA691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90552-342B-4CC2-BE83-B3A6DD33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091A-FEA1-476D-9AAF-E4A96A9E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D08-EAFA-4696-8419-F9911B08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17C42-745C-4059-90B6-68A01627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8265B-1FE0-414C-8415-3183483F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F1EAB-C6CD-4C65-97F1-178EF662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A36C7-14E6-409E-944A-4E619CD3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94A6-A3DC-46EB-A16F-478B2BCB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200C3-11DD-45AB-B29E-B82F7707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020E3-5942-4ABB-8FD5-14203458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969BE-1C14-4B48-B896-252434F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8D753-5702-44D3-AD10-FEF25389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8D58-D092-46B0-B9A0-0AA625A7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F87-7012-49B7-A986-A3C42365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0CB1-343F-4A45-B547-E3AD9C5F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7429B-7D90-4A93-BCCF-A4A844FE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C810C-AA16-42A2-9C0F-6C288193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62BBD-7DEA-49D1-AAAB-2BD80F01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0165F-1471-45E8-AF87-5B62F040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9DA9D-3740-4630-8ED3-9B7F6C36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B40FF-5415-4748-97C1-58EF12F3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784F1-3C0B-43A4-A2E7-AC0BC95E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C7DEC-1621-42AE-B07E-D77FFDCA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FB68C-0E24-497F-863D-31AC8E6C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290-6F82-4ABE-BBE4-8110A0E7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158BA-911C-4A99-9206-B83C33AF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7685F-561B-4E5F-B33B-0C2CFA2D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C3BD1-C576-402F-8D76-2C2B783C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63857-B8D0-4BE8-A500-5565D273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08C45-BF6A-4706-BE00-A15D05CB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607D7-B334-447E-B055-687C9905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544F8-3A6E-4F27-8A97-0603D227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67627-A12F-428F-AD83-D8E6A941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74587-97A3-4450-8563-FCE8CD52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9D31F-DE86-4BC3-8379-9020CE9C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1ED-7DAF-461B-AF2C-092DD580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62B56-0A3E-4877-B402-A69F4149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84074-E217-40DE-97F2-E260E9C3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76114-81BA-402B-9E10-4D4AE70D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C3A8-8DAC-4646-8F3B-4F5347A4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3D49B-D4E9-455B-9297-B6B6CFA4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6C8F0-4AAF-4409-82EC-700AB015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BA282-D95A-4996-8A1E-560C1B1F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9540-49AE-4CEE-BDF6-00928D517E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5DC-E7CC-4F68-A303-C9B62D917A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94E2-8A3C-4855-9C87-968DF9EB6B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CDD6-304F-4A51-861E-DE16DA1E00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7367-3397-480A-A940-F207797AA0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1698-B1C5-40D0-B6C5-062586A15B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4708-9075-4DCF-9CDB-F230524ADE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EA2F-808A-4C75-9F16-13B7D01833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cribe water without using the word w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in Pop-http://www.brainpop.com/science/earthsystem/water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52280" y="9907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olution is a mixture that forms when one substance dissolves anothe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olvent – the substance that does the dissolving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any substances dissolve in water because water is polar. (like the powdered Kool-Aid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is a universal solvent because it dissolves almost everyth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273480" cy="3200400"/>
          </a:xfrm>
          <a:prstGeom prst="rect">
            <a:avLst/>
          </a:prstGeom>
          <a:ln w="0">
            <a:noFill/>
          </a:ln>
        </p:spPr>
      </p:pic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195120" y="19080"/>
            <a:ext cx="84981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066680" y="175212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s the amount of heat needed to increase the temperature of a certain mass of substance by 1 degree C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requires a lot of heat to increase its temperatur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’s high specific heat is due to the strong attraction among water molecul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51920" y="1481040"/>
            <a:ext cx="533412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is the only substance on Earth that commonly exists in all 3 states of matte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olid- ice cub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iquid- water in a lak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Gas- water vapor (humidity)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Users\jcameron\AppData\Local\Microsoft\Windows\Temporary Internet Files\Content.IE5\Q7LGH5Q1\MP900438800[1].jpg"/>
          <p:cNvPicPr/>
          <p:nvPr/>
        </p:nvPicPr>
        <p:blipFill>
          <a:blip r:embed="rId2"/>
          <a:stretch/>
        </p:blipFill>
        <p:spPr>
          <a:xfrm>
            <a:off x="5867280" y="457200"/>
            <a:ext cx="3075120" cy="2438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C:\Users\jcameron\AppData\Local\Microsoft\Windows\Temporary Internet Files\Content.IE5\93GYB7TR\MP900437200[1].jpg"/>
          <p:cNvPicPr/>
          <p:nvPr/>
        </p:nvPicPr>
        <p:blipFill>
          <a:blip r:embed="rId3"/>
          <a:stretch/>
        </p:blipFill>
        <p:spPr>
          <a:xfrm>
            <a:off x="5181480" y="3429000"/>
            <a:ext cx="38102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6840" y="9140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process by which molecules at the surfac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of a liquid absorb enough energy to change into a gaseous stat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boils at 1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 and a change of state occur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olecules get enough energy to escape the liquid and become invisible water vapor (gas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95120" y="60480"/>
            <a:ext cx="8498160" cy="890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Users\jcameron\AppData\Local\Microsoft\Windows\Temporary Internet Files\Content.IE5\P158YYPT\MC900389380[1].wmf"/>
          <p:cNvPicPr/>
          <p:nvPr/>
        </p:nvPicPr>
        <p:blipFill>
          <a:blip r:embed="rId2"/>
          <a:stretch/>
        </p:blipFill>
        <p:spPr>
          <a:xfrm rot="501600">
            <a:off x="6129360" y="3697200"/>
            <a:ext cx="2813040" cy="2971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"/>
          <p:cNvPicPr/>
          <p:nvPr/>
        </p:nvPicPr>
        <p:blipFill>
          <a:blip r:embed="rId3"/>
          <a:stretch/>
        </p:blipFill>
        <p:spPr>
          <a:xfrm>
            <a:off x="5334120" y="990720"/>
            <a:ext cx="3809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142640"/>
            <a:ext cx="6858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s water cools down, it releases some of its energy to the surrounding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olecules slow down and temperature decreas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ndensation- process in which a gas changes to a liquid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sweat you see on the outside of a glas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C:\Users\jcameron\AppData\Local\Microsoft\Windows\Temporary Internet Files\Content.IE5\Q7LGH5Q1\MP900438445[1].jpg"/>
          <p:cNvPicPr/>
          <p:nvPr/>
        </p:nvPicPr>
        <p:blipFill>
          <a:blip r:embed="rId2"/>
          <a:stretch/>
        </p:blipFill>
        <p:spPr>
          <a:xfrm>
            <a:off x="5334120" y="175248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6840" y="14810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Liquid water freezes at 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C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olecules lose energy and move more slowl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n icicle forming from water dripping off a roof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4572000" y="411336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C:\Users\jcameron\AppData\Local\Microsoft\Windows\Temporary Internet Files\Content.IE5\93GYB7TR\MP900406905[1].jpg"/>
          <p:cNvPicPr/>
          <p:nvPr/>
        </p:nvPicPr>
        <p:blipFill>
          <a:blip r:embed="rId3"/>
          <a:stretch/>
        </p:blipFill>
        <p:spPr>
          <a:xfrm>
            <a:off x="4572000" y="1295280"/>
            <a:ext cx="41148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6840" y="148104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s the temperature reaches above 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C the solid ice melts and becomes a liquid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Users\jcameron\AppData\Local\Microsoft\Windows\Temporary Internet Files\Content.IE5\Q7LGH5Q1\MP900438800[1].jpg"/>
          <p:cNvPicPr/>
          <p:nvPr/>
        </p:nvPicPr>
        <p:blipFill>
          <a:blip r:embed="rId2"/>
          <a:stretch/>
        </p:blipFill>
        <p:spPr>
          <a:xfrm>
            <a:off x="5486400" y="1676520"/>
            <a:ext cx="307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the end of your notes write an eight sentence summary paragraph about your notes and turn into bask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52280" y="1752480"/>
            <a:ext cx="464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is made up of atom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toms attach together, or bond to form molecule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2 Hydrogen atoms bond to 1 Oxygen atom form a water molecule (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0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C:\Users\jcameron\AppData\Local\Microsoft\Windows\Temporary Internet Files\Content.IE5\93GYB7TR\MP900444787[1].jpg"/>
          <p:cNvPicPr/>
          <p:nvPr/>
        </p:nvPicPr>
        <p:blipFill>
          <a:blip r:embed="rId2"/>
          <a:stretch/>
        </p:blipFill>
        <p:spPr>
          <a:xfrm>
            <a:off x="4740120" y="1676520"/>
            <a:ext cx="3946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04920" y="17521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ach end of a molecule has a slight electric char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Oxygen = slight negative char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Hydrogen =slight positive char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olecule that has electrically charged areas is a polar molecul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361008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positive Hydrogen ends of the water molecule  attract the negative Oxygen ends of nearby water molecule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end result, the water molecules tend to stick together because of the electric force; similar to an magnetic force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2824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apillary Ac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urface Tens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Universal Solvent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pecific He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5042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:\Users\jcameron\AppData\Local\Microsoft\Windows\Temporary Internet Files\Content.IE5\P158YYPT\MP900444790[1].jpg"/>
          <p:cNvPicPr/>
          <p:nvPr/>
        </p:nvPicPr>
        <p:blipFill>
          <a:blip r:embed="rId2"/>
          <a:stretch/>
        </p:blipFill>
        <p:spPr>
          <a:xfrm>
            <a:off x="4648320" y="2362320"/>
            <a:ext cx="4044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880" y="1294920"/>
            <a:ext cx="7391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mbined force of attraction among water molecules and the molecules of surrounding material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xample: drinking from a straw {pg 48} (you will see the liquid rise hig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the straw than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outside 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of the straw) OR paper towel soaking up wate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molecules are attracted to the straw, they pull other water molecules up with them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969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:\Users\jcameron\AppData\Local\Microsoft\Windows\Temporary Internet Files\Content.IE5\BU7RQ4VF\MC900250795[1].wmf"/>
          <p:cNvPicPr/>
          <p:nvPr/>
        </p:nvPicPr>
        <p:blipFill>
          <a:blip r:embed="rId2"/>
          <a:stretch/>
        </p:blipFill>
        <p:spPr>
          <a:xfrm rot="561000">
            <a:off x="7467480" y="3276360"/>
            <a:ext cx="11606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0520" y="1295280"/>
            <a:ext cx="61722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action or property of like molecules sticking together, having an attractive forc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molecules are attracted to other water molecul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3720960" cy="279072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0666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tendency of water to stick to other substances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ater can also be attracted to other material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391" name="Title 3" descr=""/>
          <p:cNvPicPr/>
          <p:nvPr/>
        </p:nvPicPr>
        <p:blipFill>
          <a:blip r:embed="rId2"/>
          <a:stretch/>
        </p:blipFill>
        <p:spPr>
          <a:xfrm>
            <a:off x="195120" y="6480"/>
            <a:ext cx="8498160" cy="914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http://ga.water.usgs.gov/edu/graphics/adhesion-cohesion-2.gif"/>
          <p:cNvPicPr/>
          <p:nvPr/>
        </p:nvPicPr>
        <p:blipFill>
          <a:blip r:embed="rId3"/>
          <a:stretch/>
        </p:blipFill>
        <p:spPr>
          <a:xfrm>
            <a:off x="5334120" y="990720"/>
            <a:ext cx="266688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218960"/>
            <a:ext cx="41148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e tightness across the surface of water that is caused by the polar molecules pulling on one another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e tightness of the water keeps the bug from sinking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e pulling forces the surface of the water into a curved shape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395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3"/>
          <p:cNvSpPr/>
          <p:nvPr/>
        </p:nvSpPr>
        <p:spPr>
          <a:xfrm>
            <a:off x="449568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rface tension causes raindrops to form round beads when they hit a car windsh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0:35:25Z</dcterms:created>
  <dc:creator>melissa swofford</dc:creator>
  <dc:description/>
  <dc:language>en-US</dc:language>
  <cp:lastModifiedBy>LCS Staff</cp:lastModifiedBy>
  <dcterms:modified xsi:type="dcterms:W3CDTF">2013-12-17T16:58:33Z</dcterms:modified>
  <cp:revision>61</cp:revision>
  <dc:subject/>
  <dc:title>Bell Ringer</dc:title>
</cp:coreProperties>
</file>